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919A5-94A0-405D-9530-BD79A6ECE7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7EE24-C659-49D3-8CD0-A702264F98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C8F44-01C8-454E-A770-35BD8B7B8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73728-D684-4240-A3AD-B2AAD4A3B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DDB2E9-A3CB-4ADD-96BA-591B1BB78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B5FA7-FD0F-4303-9F11-7427D273D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5AFFE4-5B73-4FBA-A992-0807E2B172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F66D64-BA10-4823-A47A-EA244E0F36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C39CBE-EC3B-4915-8FAF-CB2D0F888E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CE6701-D8D3-4ADE-A781-0D8D35024E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ACCE58-9E48-4345-BA9C-97EF5AACFF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181DCA-927F-4511-A644-78D52D1476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09352-96AB-4848-A6C9-E485723F9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0C69B-F070-45DF-ADEB-712DB8A07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C6D3F-FF10-45A1-99F0-251E3844D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6D6B5-D43B-48FB-B7DD-9192AB3B0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ED262-E1E1-4732-A548-BFB37C44FE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E5AF80-211B-46BE-BA39-6009DA4C72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9C8DEA-5F60-46A7-94B6-A1276394A6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431C9E9-D8FB-4A77-87F5-12AAE65D02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2B84BA2-9775-4E8A-80D5-943505F066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49B247F-C729-459F-95AA-0236D6C4D1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C276BC7-EEE2-4E33-B954-C3A9DCFD94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62E8D0E-AADF-473B-99D3-8536D455DC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0B747-1BD4-4847-B948-78C036402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CB3701D-F723-4850-8465-E16455E7BA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05E823E-B21D-402F-86C1-4EF12F2342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CB5D57E-E9E4-44AD-A800-D72888C0C7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6FAE8CA-A3F9-4511-8961-AEC5D56F54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4496E65-93F8-4515-AE7C-D6A3DDD7EC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B02634D-B0B7-47CE-84BB-A6F9E254E7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573B8E7-8F24-4591-A3C5-3A86B82D72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E3C1C8-DF68-4AD9-9DF8-BC376043A2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B68A22-A18A-4AAE-AE3A-92DF5B1CFD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C26C2D-0596-48BF-AB8B-1E2D545CD8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9903E-7657-4396-B926-9FF497347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896891-5F44-4092-A2A1-F48D2B37B0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F6F68F-8EA7-4AFC-AE58-D0DDEFBA67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B7CE3B-974C-40A8-867C-72AB98E4FE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5F3B8E-1A2F-46ED-B449-4E90B6E91D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72479E-23F4-4AA7-AB42-E8C22C2794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336353-9E44-4F88-B477-564229CF3D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3EFD06-E079-4981-8F41-387ACA34A8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8AFB15-5460-4FFC-94FB-D8C577EAEC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DEDD64-7FB3-4E14-9A09-6D180530ED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FE4C0-8B22-41D5-A013-7E07252DB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689DA-057B-4F1D-882E-8B342D073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BD5FC-F0F7-4F75-A5BA-F769CA272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0BBA8-9FB0-4A57-8801-797A90093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31D77-A55D-470F-85DA-E4036B4757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933CC-E92E-4865-8B10-1F12AFBE87DB}" type="datetime3">
              <a:rPr b="0" lang="en-US" sz="1200" spc="-1" strike="noStrike">
                <a:solidFill>
                  <a:srgbClr val="fefefe"/>
                </a:solidFill>
                <a:latin typeface="Times New Roman"/>
              </a:rPr>
              <a:t>July 28, 2026</a:t>
            </a:fld>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51794-6CE4-4C4F-8889-74569A89786C}"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5ACBF-660E-48C8-8A1B-1F5E6E270539}" type="datetime">
              <a:rPr b="0" lang="en-US" sz="2400" spc="-1" strike="noStrike">
                <a:solidFill>
                  <a:srgbClr val="fefefe"/>
                </a:solidFill>
                <a:latin typeface="Times New Roman"/>
              </a:rPr>
              <a:t>07/28/26</a:t>
            </a:fld>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F8F9C-1818-4F6E-B529-B3088AC52719}"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440" cy="7117200"/>
            <a:chOff x="-645120" y="0"/>
            <a:chExt cx="10459440" cy="711720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640" y="0"/>
                <a:ext cx="2514600" cy="6858000"/>
                <a:chOff x="422640" y="0"/>
                <a:chExt cx="2514600" cy="6858000"/>
              </a:xfrm>
            </p:grpSpPr>
            <p:sp>
              <p:nvSpPr>
                <p:cNvPr id="17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675E5-C119-47AC-B222-D35912A27DD5}" type="datetime">
              <a:rPr b="0" lang="en-US" sz="1200" spc="-1" strike="noStrike">
                <a:solidFill>
                  <a:srgbClr val="fefefe"/>
                </a:solidFill>
                <a:latin typeface="Times New Roman"/>
              </a:rPr>
              <a:t>07/28/26</a:t>
            </a:fld>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0FD13-46BE-468F-83C7-8D59AD99036C}"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440" cy="7117200"/>
            <a:chOff x="-645120" y="0"/>
            <a:chExt cx="10459440" cy="711720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640" y="0"/>
                <a:ext cx="2514600" cy="6858000"/>
                <a:chOff x="422640" y="0"/>
                <a:chExt cx="2514600" cy="6858000"/>
              </a:xfrm>
            </p:grpSpPr>
            <p:sp>
              <p:nvSpPr>
                <p:cNvPr id="2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7C665-B1A3-418E-B7E2-68728B74A4F0}" type="datetime">
              <a:rPr b="0" lang="en-US" sz="1200" spc="-1" strike="noStrike">
                <a:solidFill>
                  <a:srgbClr val="fefefe"/>
                </a:solidFill>
                <a:latin typeface="Times New Roman"/>
              </a:rPr>
              <a:t>07/28/26</a:t>
            </a:fld>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B4A7C-F684-4F36-BDE0-BC65BF9E3F4C}"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South Dakota AFNR</a:t>
            </a:r>
            <a:endParaRPr b="0" lang="en-US" sz="3600" spc="-1" strike="noStrike">
              <a:solidFill>
                <a:srgbClr val="94c600"/>
              </a:solidFill>
              <a:latin typeface="Century Gothic"/>
            </a:endParaRPr>
          </a:p>
        </p:txBody>
      </p:sp>
      <p:sp>
        <p:nvSpPr>
          <p:cNvPr id="343" name="PlaceHolder 2"/>
          <p:cNvSpPr>
            <a:spLocks noGrp="1"/>
          </p:cNvSpPr>
          <p:nvPr>
            <p:ph type="subTitle"/>
          </p:nvPr>
        </p:nvSpPr>
        <p:spPr>
          <a:xfrm>
            <a:off x="4734000" y="4420800"/>
            <a:ext cx="3309840" cy="126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Century Gothic"/>
              </a:rPr>
              <a:t>Academic Integration Activities: Example #12</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62" name=""/>
          <p:cNvSpPr txBox="1"/>
          <p:nvPr/>
        </p:nvSpPr>
        <p:spPr>
          <a:xfrm>
            <a:off x="1042560" y="2323800"/>
            <a:ext cx="6777000" cy="3508200"/>
          </a:xfrm>
          <a:prstGeom prst="rect">
            <a:avLst/>
          </a:prstGeom>
          <a:noFill/>
          <a:ln w="0">
            <a:noFill/>
          </a:ln>
        </p:spPr>
        <p:txBody>
          <a:bodyPr anchor="t">
            <a:normAutofit fontScale="95000"/>
          </a:bodyPr>
          <a:p>
            <a:pPr marL="325800" indent="-2595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sume a student is working for an agricultural mail order company. That student is handed a print out from the inventory control system of current inventory on hand and a current list of orders to be shipped. They need to figure if they can fill the orders and how many items will remain after this order is filled. Based on the data given, would they be able to fill all of the orders?</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graphicFrame>
        <p:nvGraphicFramePr>
          <p:cNvPr id="364" name=""/>
          <p:cNvGraphicFramePr/>
          <p:nvPr/>
        </p:nvGraphicFramePr>
        <p:xfrm>
          <a:off x="1058760" y="2340000"/>
          <a:ext cx="6705720" cy="2695680"/>
        </p:xfrm>
        <a:graphic>
          <a:graphicData uri="http://schemas.openxmlformats.org/drawingml/2006/table">
            <a:tbl>
              <a:tblPr/>
              <a:tblGrid>
                <a:gridCol w="1905120"/>
                <a:gridCol w="1066680"/>
                <a:gridCol w="963720"/>
                <a:gridCol w="1170000"/>
                <a:gridCol w="1600200"/>
              </a:tblGrid>
              <a:tr h="489960">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Item</a:t>
                      </a:r>
                      <a:endParaRPr b="0" lang="en-US" sz="15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Current Inventory</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Current Order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Availability After Order</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Identify the type of Real Number</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r>
              <a:tr h="420120">
                <a:tc>
                  <a:txBody>
                    <a:bodyPr lIns="76680" rIns="76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Shoulder-length glove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18720">
                      <a:solidFill>
                        <a:srgbClr val="ffffff"/>
                      </a:solidFill>
                    </a:lnT>
                    <a:lnB w="5760">
                      <a:solidFill>
                        <a:srgbClr val="ffffff"/>
                      </a:solidFill>
                    </a:lnB>
                    <a:solidFill>
                      <a:srgbClr val="94c600"/>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12652 boxe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689 boxe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r>
              <a:tr h="358200">
                <a:tc>
                  <a:txBody>
                    <a:bodyPr lIns="76680" rIns="76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XL rubber boot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389 pair</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58 pair</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357120">
                <a:tc>
                  <a:txBody>
                    <a:bodyPr lIns="76680" rIns="76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L   rubber boot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134 pair</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79 pair</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356760">
                <a:tc>
                  <a:txBody>
                    <a:bodyPr lIns="76680" rIns="76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M rubber boot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23 pair</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65 pair</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358200">
                <a:tc>
                  <a:txBody>
                    <a:bodyPr lIns="76680" rIns="76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XL latex glove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987 boxe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755 boxe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355320">
                <a:tc>
                  <a:txBody>
                    <a:bodyPr lIns="76680" rIns="76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L latex glove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345 boxe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566 boxe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graphicFrame>
        <p:nvGraphicFramePr>
          <p:cNvPr id="366" name=""/>
          <p:cNvGraphicFramePr/>
          <p:nvPr/>
        </p:nvGraphicFramePr>
        <p:xfrm>
          <a:off x="1058760" y="2340000"/>
          <a:ext cx="6705720" cy="2695680"/>
        </p:xfrm>
        <a:graphic>
          <a:graphicData uri="http://schemas.openxmlformats.org/drawingml/2006/table">
            <a:tbl>
              <a:tblPr/>
              <a:tblGrid>
                <a:gridCol w="1905120"/>
                <a:gridCol w="1066680"/>
                <a:gridCol w="963720"/>
                <a:gridCol w="1170000"/>
                <a:gridCol w="1600200"/>
              </a:tblGrid>
              <a:tr h="489960">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Item</a:t>
                      </a:r>
                      <a:endParaRPr b="0" lang="en-US" sz="15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Current Inventory</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Current Order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Availability After Order</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Identify the type of Real Number</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r>
              <a:tr h="420120">
                <a:tc>
                  <a:txBody>
                    <a:bodyPr lIns="76680" rIns="76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Shoulder-length glove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18720">
                      <a:solidFill>
                        <a:srgbClr val="ffffff"/>
                      </a:solidFill>
                    </a:lnT>
                    <a:lnB w="5760">
                      <a:solidFill>
                        <a:srgbClr val="ffffff"/>
                      </a:solidFill>
                    </a:lnB>
                    <a:solidFill>
                      <a:srgbClr val="94c600"/>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12652 boxe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689 boxe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1196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Natura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r>
              <a:tr h="358200">
                <a:tc>
                  <a:txBody>
                    <a:bodyPr lIns="76680" rIns="76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XL rubber boot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389 pair</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58 pair</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33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Natura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357120">
                <a:tc>
                  <a:txBody>
                    <a:bodyPr lIns="76680" rIns="76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L   rubber boot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134 pair</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79 pair</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hole</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356760">
                <a:tc>
                  <a:txBody>
                    <a:bodyPr lIns="76680" rIns="76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M rubber boot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23 pair</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65 pair</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4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nteger</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358200">
                <a:tc>
                  <a:txBody>
                    <a:bodyPr lIns="76680" rIns="76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XL latex glove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987 boxe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755 boxe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23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Natura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355320">
                <a:tc>
                  <a:txBody>
                    <a:bodyPr lIns="76680" rIns="76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L latex glove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345 boxe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76680" rIns="76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566 boxes</a:t>
                      </a:r>
                      <a:endParaRPr b="0" lang="en-US" sz="1200" spc="-1" strike="noStrike">
                        <a:solidFill>
                          <a:srgbClr val="000000"/>
                        </a:solidFill>
                        <a:latin typeface="Arial"/>
                      </a:endParaRPr>
                    </a:p>
                  </a:txBody>
                  <a:tcPr anchor="ctr" marL="76680" marR="7668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22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nteger</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bl>
          </a:graphicData>
        </a:graphic>
      </p:graphicFrame>
      <p:sp>
        <p:nvSpPr>
          <p:cNvPr id="367" name="Rectangle 3"/>
          <p:cNvSpPr/>
          <p:nvPr/>
        </p:nvSpPr>
        <p:spPr>
          <a:xfrm>
            <a:off x="1143000" y="5181480"/>
            <a:ext cx="6705720" cy="1191240"/>
          </a:xfrm>
          <a:prstGeom prst="rect">
            <a:avLst/>
          </a:prstGeom>
          <a:noFill/>
          <a:ln w="0">
            <a:noFill/>
          </a:ln>
        </p:spPr>
        <p:style>
          <a:lnRef idx="0"/>
          <a:fillRef idx="0"/>
          <a:effectRef idx="0"/>
          <a:fontRef idx="minor"/>
        </p:style>
        <p:txBody>
          <a:bodyPr lIns="90000" rIns="90000" tIns="46800" bIns="46800" anchor="t">
            <a:spAutoFit/>
          </a:bodyPr>
          <a:p>
            <a:pPr marL="343080" indent="-273240">
              <a:lnSpc>
                <a:spcPct val="100000"/>
              </a:lnSpc>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Answer: No, the student would be able to fill all of the orders except the M rubber boots and the L latex gloves. They would be (short) -42 pairs of M rubber boots and (short) -221 boxes of L latex glov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69" name=""/>
          <p:cNvSpPr txBox="1"/>
          <p:nvPr/>
        </p:nvSpPr>
        <p:spPr>
          <a:xfrm>
            <a:off x="1042920" y="2323800"/>
            <a:ext cx="70344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sume a student was just hired to sell windmill turbines and was given a handbook with the capacity levels of different turbines. The chart for each turbine’s capacity is below. As part of the orientation, the sales people meet with the engineers to help understand the products. The first thing the engineer asks is which of these numbers is actually rational?</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graphicFrame>
        <p:nvGraphicFramePr>
          <p:cNvPr id="371" name=""/>
          <p:cNvGraphicFramePr/>
          <p:nvPr/>
        </p:nvGraphicFramePr>
        <p:xfrm>
          <a:off x="944640" y="2359080"/>
          <a:ext cx="3414600" cy="1755720"/>
        </p:xfrm>
        <a:graphic>
          <a:graphicData uri="http://schemas.openxmlformats.org/drawingml/2006/table">
            <a:tbl>
              <a:tblPr/>
              <a:tblGrid>
                <a:gridCol w="1376280"/>
                <a:gridCol w="2038320"/>
              </a:tblGrid>
              <a:tr h="351000">
                <a:tc>
                  <a:txBody>
                    <a:bodyPr lIns="122400" rIns="122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Item</a:t>
                      </a:r>
                      <a:endParaRPr b="0" lang="en-US" sz="2000" spc="-1" strike="noStrike">
                        <a:solidFill>
                          <a:srgbClr val="000000"/>
                        </a:solidFill>
                        <a:latin typeface="Arial"/>
                      </a:endParaRPr>
                    </a:p>
                  </a:txBody>
                  <a:tcPr anchor="ctr" marL="122400" marR="12240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122400" rIns="122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Capacity</a:t>
                      </a:r>
                      <a:endParaRPr b="0" lang="en-US" sz="2000" spc="-1" strike="noStrike">
                        <a:solidFill>
                          <a:srgbClr val="000000"/>
                        </a:solidFill>
                        <a:latin typeface="Arial"/>
                      </a:endParaRPr>
                    </a:p>
                  </a:txBody>
                  <a:tcPr anchor="ctr" marL="122400" marR="12240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r>
              <a:tr h="701640">
                <a:tc>
                  <a:txBody>
                    <a:bodyPr lIns="122400" rIns="122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Turbine 1</a:t>
                      </a:r>
                      <a:endParaRPr b="0" lang="en-US" sz="2000" spc="-1" strike="noStrike">
                        <a:solidFill>
                          <a:srgbClr val="000000"/>
                        </a:solidFill>
                        <a:latin typeface="Arial"/>
                      </a:endParaRPr>
                    </a:p>
                  </a:txBody>
                  <a:tcPr anchor="ctr" marL="122400" marR="122400">
                    <a:lnL w="5760">
                      <a:solidFill>
                        <a:srgbClr val="ffffff"/>
                      </a:solidFill>
                    </a:lnL>
                    <a:lnR w="5760">
                      <a:solidFill>
                        <a:srgbClr val="ffffff"/>
                      </a:solidFill>
                    </a:lnR>
                    <a:lnT w="18720">
                      <a:solidFill>
                        <a:srgbClr val="ffffff"/>
                      </a:solidFill>
                    </a:lnT>
                    <a:lnB w="5760">
                      <a:solidFill>
                        <a:srgbClr val="ffffff"/>
                      </a:solidFill>
                    </a:lnB>
                    <a:solidFill>
                      <a:srgbClr val="94c600"/>
                    </a:solidFill>
                  </a:tcPr>
                </a:tc>
                <a:tc>
                  <a:txBody>
                    <a:bodyPr lIns="122400" rIns="122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2√2</a:t>
                      </a:r>
                      <a:endParaRPr b="0" lang="en-US" sz="2000" spc="-1" strike="noStrike">
                        <a:solidFill>
                          <a:srgbClr val="000000"/>
                        </a:solidFill>
                        <a:latin typeface="Arial"/>
                      </a:endParaRPr>
                    </a:p>
                  </a:txBody>
                  <a:tcPr anchor="ctr" marL="122400" marR="12240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r>
              <a:tr h="701640">
                <a:tc>
                  <a:txBody>
                    <a:bodyPr lIns="122400" rIns="122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Turbine 2</a:t>
                      </a:r>
                      <a:endParaRPr b="0" lang="en-US" sz="2000" spc="-1" strike="noStrike">
                        <a:solidFill>
                          <a:srgbClr val="000000"/>
                        </a:solidFill>
                        <a:latin typeface="Arial"/>
                      </a:endParaRPr>
                    </a:p>
                  </a:txBody>
                  <a:tcPr anchor="ctr" marL="122400" marR="12240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122400" rIns="122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π</a:t>
                      </a:r>
                      <a:endParaRPr b="0" lang="en-US" sz="2000" spc="-1" strike="noStrike">
                        <a:solidFill>
                          <a:srgbClr val="000000"/>
                        </a:solidFill>
                        <a:latin typeface="Arial"/>
                      </a:endParaRPr>
                    </a:p>
                  </a:txBody>
                  <a:tcPr anchor="ctr" marL="122400" marR="1224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701640">
                <a:tc>
                  <a:txBody>
                    <a:bodyPr lIns="122400" rIns="122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Turbine 3</a:t>
                      </a:r>
                      <a:endParaRPr b="0" lang="en-US" sz="2000" spc="-1" strike="noStrike">
                        <a:solidFill>
                          <a:srgbClr val="000000"/>
                        </a:solidFill>
                        <a:latin typeface="Arial"/>
                      </a:endParaRPr>
                    </a:p>
                  </a:txBody>
                  <a:tcPr anchor="ctr" marL="122400" marR="12240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122400" rIns="122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4</a:t>
                      </a:r>
                      <a:endParaRPr b="0" lang="en-US" sz="2000" spc="-1" strike="noStrike">
                        <a:solidFill>
                          <a:srgbClr val="000000"/>
                        </a:solidFill>
                        <a:latin typeface="Arial"/>
                      </a:endParaRPr>
                    </a:p>
                  </a:txBody>
                  <a:tcPr anchor="ctr" marL="122400" marR="12240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701640">
                <a:tc>
                  <a:txBody>
                    <a:bodyPr lIns="122400" rIns="122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Turbine 4</a:t>
                      </a:r>
                      <a:endParaRPr b="0" lang="en-US" sz="2000" spc="-1" strike="noStrike">
                        <a:solidFill>
                          <a:srgbClr val="000000"/>
                        </a:solidFill>
                        <a:latin typeface="Arial"/>
                      </a:endParaRPr>
                    </a:p>
                  </a:txBody>
                  <a:tcPr anchor="ctr" marL="122400" marR="12240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122400" rIns="122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5.121221222…</a:t>
                      </a:r>
                      <a:endParaRPr b="0" lang="en-US" sz="2000" spc="-1" strike="noStrike">
                        <a:solidFill>
                          <a:srgbClr val="000000"/>
                        </a:solidFill>
                        <a:latin typeface="Arial"/>
                      </a:endParaRPr>
                    </a:p>
                  </a:txBody>
                  <a:tcPr anchor="ctr" marL="122400" marR="1224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graphicFrame>
        <p:nvGraphicFramePr>
          <p:cNvPr id="373" name=""/>
          <p:cNvGraphicFramePr/>
          <p:nvPr/>
        </p:nvGraphicFramePr>
        <p:xfrm>
          <a:off x="941400" y="2359080"/>
          <a:ext cx="7516800" cy="1755720"/>
        </p:xfrm>
        <a:graphic>
          <a:graphicData uri="http://schemas.openxmlformats.org/drawingml/2006/table">
            <a:tbl>
              <a:tblPr/>
              <a:tblGrid>
                <a:gridCol w="1376280"/>
                <a:gridCol w="2038320"/>
                <a:gridCol w="1944720"/>
                <a:gridCol w="2157480"/>
              </a:tblGrid>
              <a:tr h="701640">
                <a:tc>
                  <a:txBody>
                    <a:bodyPr lIns="122400" rIns="122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Item</a:t>
                      </a:r>
                      <a:endParaRPr b="0" lang="en-US" sz="2000" spc="-1" strike="noStrike">
                        <a:solidFill>
                          <a:srgbClr val="000000"/>
                        </a:solidFill>
                        <a:latin typeface="Arial"/>
                      </a:endParaRPr>
                    </a:p>
                  </a:txBody>
                  <a:tcPr anchor="ctr" marL="122400" marR="12240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122400" rIns="122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Capacity</a:t>
                      </a:r>
                      <a:endParaRPr b="0" lang="en-US" sz="2000" spc="-1" strike="noStrike">
                        <a:solidFill>
                          <a:srgbClr val="000000"/>
                        </a:solidFill>
                        <a:latin typeface="Arial"/>
                      </a:endParaRPr>
                    </a:p>
                  </a:txBody>
                  <a:tcPr anchor="ctr" marL="122400" marR="12240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Simplified</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Type of Number</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r>
              <a:tr h="701640">
                <a:tc>
                  <a:txBody>
                    <a:bodyPr lIns="122400" rIns="122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Turbine 1</a:t>
                      </a:r>
                      <a:endParaRPr b="0" lang="en-US" sz="2000" spc="-1" strike="noStrike">
                        <a:solidFill>
                          <a:srgbClr val="000000"/>
                        </a:solidFill>
                        <a:latin typeface="Arial"/>
                      </a:endParaRPr>
                    </a:p>
                  </a:txBody>
                  <a:tcPr anchor="ctr" marL="122400" marR="122400">
                    <a:lnL w="5760">
                      <a:solidFill>
                        <a:srgbClr val="ffffff"/>
                      </a:solidFill>
                    </a:lnL>
                    <a:lnR w="5760">
                      <a:solidFill>
                        <a:srgbClr val="ffffff"/>
                      </a:solidFill>
                    </a:lnR>
                    <a:lnT w="18720">
                      <a:solidFill>
                        <a:srgbClr val="ffffff"/>
                      </a:solidFill>
                    </a:lnT>
                    <a:lnB w="5760">
                      <a:solidFill>
                        <a:srgbClr val="ffffff"/>
                      </a:solidFill>
                    </a:lnB>
                    <a:solidFill>
                      <a:srgbClr val="94c600"/>
                    </a:solidFill>
                  </a:tcPr>
                </a:tc>
                <a:tc>
                  <a:txBody>
                    <a:bodyPr lIns="122400" rIns="122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2√2</a:t>
                      </a:r>
                      <a:endParaRPr b="0" lang="en-US" sz="2000" spc="-1" strike="noStrike">
                        <a:solidFill>
                          <a:srgbClr val="000000"/>
                        </a:solidFill>
                        <a:latin typeface="Arial"/>
                      </a:endParaRPr>
                    </a:p>
                  </a:txBody>
                  <a:tcPr anchor="ctr" marL="122400" marR="12240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2.828427125…</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rrational</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r>
              <a:tr h="701640">
                <a:tc>
                  <a:txBody>
                    <a:bodyPr lIns="122400" rIns="122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Turbine 2</a:t>
                      </a:r>
                      <a:endParaRPr b="0" lang="en-US" sz="2000" spc="-1" strike="noStrike">
                        <a:solidFill>
                          <a:srgbClr val="000000"/>
                        </a:solidFill>
                        <a:latin typeface="Arial"/>
                      </a:endParaRPr>
                    </a:p>
                  </a:txBody>
                  <a:tcPr anchor="ctr" marL="122400" marR="12240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122400" rIns="122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π</a:t>
                      </a:r>
                      <a:endParaRPr b="0" lang="en-US" sz="2000" spc="-1" strike="noStrike">
                        <a:solidFill>
                          <a:srgbClr val="000000"/>
                        </a:solidFill>
                        <a:latin typeface="Arial"/>
                      </a:endParaRPr>
                    </a:p>
                  </a:txBody>
                  <a:tcPr anchor="ctr" marL="122400" marR="1224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3.14159265…</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rrational</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701640">
                <a:tc>
                  <a:txBody>
                    <a:bodyPr lIns="122400" rIns="122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Turbine 3</a:t>
                      </a:r>
                      <a:endParaRPr b="0" lang="en-US" sz="2000" spc="-1" strike="noStrike">
                        <a:solidFill>
                          <a:srgbClr val="000000"/>
                        </a:solidFill>
                        <a:latin typeface="Arial"/>
                      </a:endParaRPr>
                    </a:p>
                  </a:txBody>
                  <a:tcPr anchor="ctr" marL="122400" marR="12240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122400" rIns="122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4</a:t>
                      </a:r>
                      <a:endParaRPr b="0" lang="en-US" sz="2000" spc="-1" strike="noStrike">
                        <a:solidFill>
                          <a:srgbClr val="000000"/>
                        </a:solidFill>
                        <a:latin typeface="Arial"/>
                      </a:endParaRPr>
                    </a:p>
                  </a:txBody>
                  <a:tcPr anchor="ctr" marL="122400" marR="12240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2</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Rational</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701640">
                <a:tc>
                  <a:txBody>
                    <a:bodyPr lIns="122400" rIns="122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Turbine 4</a:t>
                      </a:r>
                      <a:endParaRPr b="0" lang="en-US" sz="2000" spc="-1" strike="noStrike">
                        <a:solidFill>
                          <a:srgbClr val="000000"/>
                        </a:solidFill>
                        <a:latin typeface="Arial"/>
                      </a:endParaRPr>
                    </a:p>
                  </a:txBody>
                  <a:tcPr anchor="ctr" marL="122400" marR="12240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122400" rIns="122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5.121221222…</a:t>
                      </a:r>
                      <a:endParaRPr b="0" lang="en-US" sz="2000" spc="-1" strike="noStrike">
                        <a:solidFill>
                          <a:srgbClr val="000000"/>
                        </a:solidFill>
                        <a:latin typeface="Arial"/>
                      </a:endParaRPr>
                    </a:p>
                  </a:txBody>
                  <a:tcPr anchor="ctr" marL="122400" marR="1224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5.121221222…</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rrational</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bl>
          </a:graphicData>
        </a:graphic>
      </p:graphicFrame>
      <p:sp>
        <p:nvSpPr>
          <p:cNvPr id="374" name="Rectangle 9"/>
          <p:cNvSpPr/>
          <p:nvPr/>
        </p:nvSpPr>
        <p:spPr>
          <a:xfrm>
            <a:off x="990720" y="4476600"/>
            <a:ext cx="7467480" cy="703800"/>
          </a:xfrm>
          <a:prstGeom prst="rect">
            <a:avLst/>
          </a:prstGeom>
          <a:noFill/>
          <a:ln w="0">
            <a:noFill/>
          </a:ln>
        </p:spPr>
        <p:style>
          <a:lnRef idx="0"/>
          <a:fillRef idx="0"/>
          <a:effectRef idx="0"/>
          <a:fontRef idx="minor"/>
        </p:style>
        <p:txBody>
          <a:bodyPr lIns="90000" rIns="90000" tIns="46800" bIns="46800" anchor="t">
            <a:spAutoFit/>
          </a:bodyPr>
          <a:p>
            <a:pPr marL="343080" indent="-273240">
              <a:lnSpc>
                <a:spcPct val="10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nswer: √4 is the only rational number, as it simplifies to 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76" name=""/>
          <p:cNvSpPr txBox="1"/>
          <p:nvPr/>
        </p:nvSpPr>
        <p:spPr>
          <a:xfrm>
            <a:off x="1042560" y="2323800"/>
            <a:ext cx="718668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sume a student works at a local tractor dealership. At the end of the year they were asked to figure the net profit margin (Net income after taxes ÷ Revenue = Net Profit Margin) on a specific model of tractor. The net income after taxes on that specific model of tractors sold was $130,000, the revenue was $747,000. What is the net profit margin? Is this a real number?</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7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ake the net income after taxes and divide it by the revenue</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130,000/$747,000 = .174029451…</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It does not end or repeat, so it is not a real number; it is irrational</a:t>
            </a:r>
            <a:endParaRPr b="0" lang="en-US" sz="20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swer: .174029451…not a real number</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Note: Net profit margin is often expressed in a %. In this case the net profit margin would likely be expressed at %17.4.</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380" name=""/>
          <p:cNvSpPr txBox="1"/>
          <p:nvPr/>
        </p:nvSpPr>
        <p:spPr>
          <a:xfrm>
            <a:off x="1042560" y="2323800"/>
            <a:ext cx="711036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sume a student began a business selling toy tractors online. At the end of the year he wanted to figure out his net profit margin. His net income after taxes was $1,500 and he had revenue of $6,000. What was his profit margin? Is this a real number?</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swer: 0.25 or %25</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This is a real number</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More specifically, a rational real number</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382" name=""/>
          <p:cNvSpPr txBox="1"/>
          <p:nvPr/>
        </p:nvSpPr>
        <p:spPr>
          <a:xfrm>
            <a:off x="1042560" y="2323800"/>
            <a:ext cx="6777000" cy="3508200"/>
          </a:xfrm>
          <a:prstGeom prst="rect">
            <a:avLst/>
          </a:prstGeom>
          <a:noFill/>
          <a:ln w="0">
            <a:noFill/>
          </a:ln>
        </p:spPr>
        <p:txBody>
          <a:bodyPr anchor="t">
            <a:normAutofit fontScale="96000"/>
          </a:bodyPr>
          <a:p>
            <a:pPr marL="329040" indent="-2620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sume a student works at a local hardware store that sells both in store and online. They were given an inventory print out of some of the nuts and bolts and then given a print out of online orders that needed to be filled. Will the student be able to fill all of the orders with the current inventory? If not, which ones can be filled and which ones cannot? What type of numbers is the student working with?</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5"/>
          <p:cNvSpPr/>
          <p:nvPr/>
        </p:nvSpPr>
        <p:spPr>
          <a:xfrm>
            <a:off x="914400" y="1900080"/>
            <a:ext cx="73152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d2d"/>
                </a:solidFill>
                <a:latin typeface="Verdana"/>
              </a:rPr>
              <a:t>Agribusiness Sales and Marketing students will be able to identify and use real numbers when interpreting inventory and calculating product marg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graphicFrame>
        <p:nvGraphicFramePr>
          <p:cNvPr id="384" name=""/>
          <p:cNvGraphicFramePr/>
          <p:nvPr/>
        </p:nvGraphicFramePr>
        <p:xfrm>
          <a:off x="1042920" y="2324160"/>
          <a:ext cx="4075200" cy="2851200"/>
        </p:xfrm>
        <a:graphic>
          <a:graphicData uri="http://schemas.openxmlformats.org/drawingml/2006/table">
            <a:tbl>
              <a:tblPr/>
              <a:tblGrid>
                <a:gridCol w="1817640"/>
                <a:gridCol w="1078200"/>
                <a:gridCol w="1179360"/>
              </a:tblGrid>
              <a:tr h="533520">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Item</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 </a:t>
                      </a:r>
                      <a:r>
                        <a:rPr b="1" lang="en-US" sz="1300" spc="-1" strike="noStrike">
                          <a:solidFill>
                            <a:srgbClr val="ffffff"/>
                          </a:solidFill>
                          <a:latin typeface="Century Gothic"/>
                        </a:rPr>
                        <a:t>Current Inventory</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Orders to Fill</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r>
              <a:tr h="266760">
                <a:tc>
                  <a:txBody>
                    <a:bodyPr lIns="81720" rIns="81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½ inch nuts</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18720">
                      <a:solidFill>
                        <a:srgbClr val="ffffff"/>
                      </a:solidFill>
                    </a:lnT>
                    <a:lnB w="576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789</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1233</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r>
              <a:tr h="455400">
                <a:tc>
                  <a:txBody>
                    <a:bodyPr lIns="81720" rIns="81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½ inch x 3 inch bolts</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917</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917</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266760">
                <a:tc>
                  <a:txBody>
                    <a:bodyPr lIns="81720" rIns="81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¼ inch nuts</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780</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600</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265680">
                <a:tc>
                  <a:txBody>
                    <a:bodyPr lIns="81720" rIns="81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¼ inch x 3 inch bolts</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89</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120</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266760">
                <a:tc>
                  <a:txBody>
                    <a:bodyPr lIns="81720" rIns="81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½ inch lock washers</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121</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100</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265680">
                <a:tc>
                  <a:txBody>
                    <a:bodyPr lIns="81720" rIns="81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½ inch flat washers</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1,225</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1000</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266760">
                <a:tc>
                  <a:txBody>
                    <a:bodyPr lIns="81720" rIns="81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¼ inch lock washers</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2,255</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900</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263880">
                <a:tc>
                  <a:txBody>
                    <a:bodyPr lIns="81720" rIns="81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¼ inch flat washers</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956</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950</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graphicFrame>
        <p:nvGraphicFramePr>
          <p:cNvPr id="386" name=""/>
          <p:cNvGraphicFramePr/>
          <p:nvPr/>
        </p:nvGraphicFramePr>
        <p:xfrm>
          <a:off x="1042920" y="2324160"/>
          <a:ext cx="6782040" cy="2851200"/>
        </p:xfrm>
        <a:graphic>
          <a:graphicData uri="http://schemas.openxmlformats.org/drawingml/2006/table">
            <a:tbl>
              <a:tblPr/>
              <a:tblGrid>
                <a:gridCol w="1817640"/>
                <a:gridCol w="1078200"/>
                <a:gridCol w="1179360"/>
                <a:gridCol w="1182600"/>
                <a:gridCol w="1524240"/>
              </a:tblGrid>
              <a:tr h="682920">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Item</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 </a:t>
                      </a:r>
                      <a:r>
                        <a:rPr b="1" lang="en-US" sz="1300" spc="-1" strike="noStrike">
                          <a:solidFill>
                            <a:srgbClr val="ffffff"/>
                          </a:solidFill>
                          <a:latin typeface="Century Gothic"/>
                        </a:rPr>
                        <a:t>Current Inventory</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Orders to Fill</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Availability After Order</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Identify the type of real number</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r>
              <a:tr h="245520">
                <a:tc>
                  <a:txBody>
                    <a:bodyPr lIns="81720" rIns="81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½ inch nuts</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18720">
                      <a:solidFill>
                        <a:srgbClr val="ffffff"/>
                      </a:solidFill>
                    </a:lnT>
                    <a:lnB w="576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789</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1233</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444</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Integer</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r>
              <a:tr h="455400">
                <a:tc>
                  <a:txBody>
                    <a:bodyPr lIns="81720" rIns="81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½ inch x 3 inch bolts</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917</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917</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0</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Whole</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245520">
                <a:tc>
                  <a:txBody>
                    <a:bodyPr lIns="81720" rIns="81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¼ inch nuts</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780</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600</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180</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Natural</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244080">
                <a:tc>
                  <a:txBody>
                    <a:bodyPr lIns="81720" rIns="81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¼ inch x 3 inch bolts</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89</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120</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 31</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Integer</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245160">
                <a:tc>
                  <a:txBody>
                    <a:bodyPr lIns="81720" rIns="81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½ inch lock washers</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121</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100</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21</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Natural</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244080">
                <a:tc>
                  <a:txBody>
                    <a:bodyPr lIns="81720" rIns="81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½ inch flat washers</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1,225</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1000</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225</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Natural</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245160">
                <a:tc>
                  <a:txBody>
                    <a:bodyPr lIns="81720" rIns="81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¼ inch lock washers</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2,255</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900</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1,355</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Natural</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243360">
                <a:tc>
                  <a:txBody>
                    <a:bodyPr lIns="81720" rIns="81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entury Gothic"/>
                        </a:rPr>
                        <a:t>¼ inch flat washers</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956</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950</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6</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720" rIns="81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Natural</a:t>
                      </a:r>
                      <a:endParaRPr b="0" lang="en-US" sz="1300" spc="-1" strike="noStrike">
                        <a:solidFill>
                          <a:srgbClr val="000000"/>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bl>
          </a:graphicData>
        </a:graphic>
      </p:graphicFrame>
      <p:sp>
        <p:nvSpPr>
          <p:cNvPr id="387" name="Rectangle 10"/>
          <p:cNvSpPr/>
          <p:nvPr/>
        </p:nvSpPr>
        <p:spPr>
          <a:xfrm>
            <a:off x="1143000" y="5334120"/>
            <a:ext cx="6705720" cy="916920"/>
          </a:xfrm>
          <a:prstGeom prst="rect">
            <a:avLst/>
          </a:prstGeom>
          <a:noFill/>
          <a:ln w="0">
            <a:noFill/>
          </a:ln>
        </p:spPr>
        <p:style>
          <a:lnRef idx="0"/>
          <a:fillRef idx="0"/>
          <a:effectRef idx="0"/>
          <a:fontRef idx="minor"/>
        </p:style>
        <p:txBody>
          <a:bodyPr lIns="90000" rIns="90000" tIns="46800" bIns="46800" anchor="t">
            <a:spAutoFit/>
          </a:bodyPr>
          <a:p>
            <a:pPr marL="343080" indent="-273240">
              <a:lnSpc>
                <a:spcPct val="100000"/>
              </a:lnSpc>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Answer: The student will not be able to fill all of the orders. The ½ inch nuts and the ¼ inch x 3 inch bolts will be sh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g Standard</a:t>
            </a:r>
            <a:endParaRPr b="0" lang="en-US" sz="4000" spc="-1" strike="noStrike">
              <a:solidFill>
                <a:srgbClr val="94c600"/>
              </a:solidFill>
              <a:latin typeface="Century Gothic"/>
            </a:endParaRPr>
          </a:p>
        </p:txBody>
      </p:sp>
      <p:sp>
        <p:nvSpPr>
          <p:cNvPr id="346" name=""/>
          <p:cNvSpPr txBox="1"/>
          <p:nvPr/>
        </p:nvSpPr>
        <p:spPr>
          <a:xfrm>
            <a:off x="1042560" y="2323800"/>
            <a:ext cx="718668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gribusiness Sales and Marketing, ABSM 3.1</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Apply reading comprehension, writing and math skills in inventory management</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Calculate product margin (specifically net profit)</a:t>
            </a:r>
            <a:endParaRPr b="0" lang="en-US" sz="20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Interpret inventory control systems</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cademic Standard</a:t>
            </a:r>
            <a:endParaRPr b="0" lang="en-US" sz="4000" spc="-1" strike="noStrike">
              <a:solidFill>
                <a:srgbClr val="94c600"/>
              </a:solidFill>
              <a:latin typeface="Century Gothic"/>
            </a:endParaRPr>
          </a:p>
        </p:txBody>
      </p:sp>
      <p:sp>
        <p:nvSpPr>
          <p:cNvPr id="34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9-12.N.1.1</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Students are able to identify multiple representations of a real number (Comprehension)</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Given a real number, identify the subset(s) of real numbers to which it belongs.</a:t>
            </a:r>
            <a:endParaRPr b="0" lang="en-US" sz="20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Represent rational and irrational numbers in different forms</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0"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eal numbers can be written in many forms like natural numbers, whole numbers, integers, and rational number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rrational numbers also exist, and knowing their definition may help explain real numbers</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2" name=""/>
          <p:cNvSpPr txBox="1"/>
          <p:nvPr/>
        </p:nvSpPr>
        <p:spPr>
          <a:xfrm>
            <a:off x="1042560" y="2323800"/>
            <a:ext cx="6777000" cy="3508200"/>
          </a:xfrm>
          <a:prstGeom prst="rect">
            <a:avLst/>
          </a:prstGeom>
          <a:noFill/>
          <a:ln w="0">
            <a:noFill/>
          </a:ln>
        </p:spPr>
        <p:txBody>
          <a:bodyPr anchor="t">
            <a:normAutofit fontScale="90000"/>
          </a:bodyPr>
          <a:p>
            <a:pPr marL="308520" indent="-245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Natural numbers</a:t>
            </a:r>
            <a:endParaRPr b="0" lang="en-US" sz="2400" spc="-1" strike="noStrike">
              <a:solidFill>
                <a:srgbClr val="3e3d2d"/>
              </a:solidFill>
              <a:latin typeface="Century Gothic"/>
            </a:endParaRPr>
          </a:p>
          <a:p>
            <a:pPr lvl="1" marL="575640" indent="-24552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lso known as counting numbers. Starting at 1 and continuing forever</a:t>
            </a:r>
            <a:endParaRPr b="0" lang="en-US" sz="2000" spc="-1" strike="noStrike">
              <a:solidFill>
                <a:srgbClr val="3e3d2d"/>
              </a:solidFill>
              <a:latin typeface="Century Gothic"/>
            </a:endParaRPr>
          </a:p>
          <a:p>
            <a:pPr lvl="1" marL="575640" indent="-24552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1, 2, 3, 4, 5, 6, 7, 8, 9, 10…</a:t>
            </a:r>
            <a:endParaRPr b="0" lang="en-US" sz="2000" spc="-1" strike="noStrike">
              <a:solidFill>
                <a:srgbClr val="3e3d2d"/>
              </a:solidFill>
              <a:latin typeface="Century Gothic"/>
            </a:endParaRPr>
          </a:p>
          <a:p>
            <a:pPr marL="308520" indent="-245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Whole numbers</a:t>
            </a:r>
            <a:endParaRPr b="0" lang="en-US" sz="2400" spc="-1" strike="noStrike">
              <a:solidFill>
                <a:srgbClr val="3e3d2d"/>
              </a:solidFill>
              <a:latin typeface="Century Gothic"/>
            </a:endParaRPr>
          </a:p>
          <a:p>
            <a:pPr lvl="1" marL="575640" indent="-24552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ll the natural numbers plus zero</a:t>
            </a:r>
            <a:endParaRPr b="0" lang="en-US" sz="2000" spc="-1" strike="noStrike">
              <a:solidFill>
                <a:srgbClr val="3e3d2d"/>
              </a:solidFill>
              <a:latin typeface="Century Gothic"/>
            </a:endParaRPr>
          </a:p>
          <a:p>
            <a:pPr lvl="1" marL="575640" indent="-24552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0, 1, 2, 3, 4, 5, 6, 7, 8, 9, 10…</a:t>
            </a:r>
            <a:endParaRPr b="0" lang="en-US" sz="2000" spc="-1" strike="noStrike">
              <a:solidFill>
                <a:srgbClr val="3e3d2d"/>
              </a:solidFill>
              <a:latin typeface="Century Gothic"/>
            </a:endParaRPr>
          </a:p>
          <a:p>
            <a:pPr marL="308520" indent="-245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ntegers</a:t>
            </a:r>
            <a:endParaRPr b="0" lang="en-US" sz="2400" spc="-1" strike="noStrike">
              <a:solidFill>
                <a:srgbClr val="3e3d2d"/>
              </a:solidFill>
              <a:latin typeface="Century Gothic"/>
            </a:endParaRPr>
          </a:p>
          <a:p>
            <a:pPr lvl="1" marL="575640" indent="-24552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ll the whole numbers plus the negatives</a:t>
            </a:r>
            <a:endParaRPr b="0" lang="en-US" sz="2000" spc="-1" strike="noStrike">
              <a:solidFill>
                <a:srgbClr val="3e3d2d"/>
              </a:solidFill>
              <a:latin typeface="Century Gothic"/>
            </a:endParaRPr>
          </a:p>
          <a:p>
            <a:pPr lvl="1" marL="575640" indent="-24552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t>
            </a:r>
            <a:r>
              <a:rPr b="0" lang="en-US" sz="2000" spc="-1" strike="noStrike">
                <a:solidFill>
                  <a:srgbClr val="3e3d2d"/>
                </a:solidFill>
                <a:latin typeface="Century Gothic"/>
              </a:rPr>
              <a:t>-5, -4, -3, -2, -1, 0, 1, 2, 3, 4, 5…</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4" name=""/>
          <p:cNvSpPr txBox="1"/>
          <p:nvPr/>
        </p:nvSpPr>
        <p:spPr>
          <a:xfrm>
            <a:off x="1042560" y="2323800"/>
            <a:ext cx="7263000" cy="3508200"/>
          </a:xfrm>
          <a:prstGeom prst="rect">
            <a:avLst/>
          </a:prstGeom>
          <a:noFill/>
          <a:ln w="0">
            <a:noFill/>
          </a:ln>
        </p:spPr>
        <p:txBody>
          <a:bodyPr anchor="t">
            <a:normAutofit fontScale="96000"/>
          </a:bodyPr>
          <a:p>
            <a:pPr marL="329040" indent="-2620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ational numbers</a:t>
            </a:r>
            <a:endParaRPr b="0" lang="en-US" sz="2400" spc="-1" strike="noStrike">
              <a:solidFill>
                <a:srgbClr val="3e3d2d"/>
              </a:solidFill>
              <a:latin typeface="Century Gothic"/>
            </a:endParaRPr>
          </a:p>
          <a:p>
            <a:pPr lvl="1" marL="613800" indent="-26172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Can be put into the formula a/b, where a and b are both integers and b is not zero. We often refer to rational numbers as fractions. In the fraction a/b, a is the numerator and b is the denominator. Fractions can be smaller than 1, like ½, or larger than 1, like 5/2, which can be simplified to 2 ½. All integers can be thought of as rational numbers as well, with a denominator of 1, like 3 being written as 3/1. Rational numbers as a decimal will always hit a repeating pattern, like 1.66̅ or 2.1241̅2̅4̅, or will end, like 3.75 or 6.2.</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pic>
        <p:nvPicPr>
          <p:cNvPr id="356" name="Content Placeholder 2" descr=""/>
          <p:cNvPicPr/>
          <p:nvPr/>
        </p:nvPicPr>
        <p:blipFill>
          <a:blip r:embed="rId1"/>
          <a:stretch/>
        </p:blipFill>
        <p:spPr>
          <a:xfrm>
            <a:off x="1042920" y="2322360"/>
            <a:ext cx="6778800" cy="3511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8" name=""/>
          <p:cNvSpPr txBox="1"/>
          <p:nvPr/>
        </p:nvSpPr>
        <p:spPr>
          <a:xfrm>
            <a:off x="1042920" y="2285640"/>
            <a:ext cx="7338960" cy="777960"/>
          </a:xfrm>
          <a:prstGeom prst="rect">
            <a:avLst/>
          </a:prstGeom>
          <a:noFill/>
          <a:ln w="0">
            <a:noFill/>
          </a:ln>
        </p:spPr>
        <p:txBody>
          <a:bodyPr anchor="t">
            <a:normAutofit/>
          </a:bodyPr>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This is an image to help visualize how the real number system works</a:t>
            </a:r>
            <a:endParaRPr b="0" lang="en-US" sz="2000" spc="-1" strike="noStrike">
              <a:solidFill>
                <a:srgbClr val="3e3d2d"/>
              </a:solidFill>
              <a:latin typeface="Century Gothic"/>
            </a:endParaRPr>
          </a:p>
        </p:txBody>
      </p:sp>
      <p:pic>
        <p:nvPicPr>
          <p:cNvPr id="359" name="Content Placeholder 12" descr=""/>
          <p:cNvPicPr/>
          <p:nvPr/>
        </p:nvPicPr>
        <p:blipFill>
          <a:blip r:embed="rId1"/>
          <a:srcRect l="30043" t="36800" r="31207" b="22667"/>
          <a:stretch/>
        </p:blipFill>
        <p:spPr>
          <a:xfrm>
            <a:off x="1995480" y="2635200"/>
            <a:ext cx="6691320" cy="3809880"/>
          </a:xfrm>
          <a:prstGeom prst="rect">
            <a:avLst/>
          </a:prstGeom>
          <a:ln w="0">
            <a:noFill/>
          </a:ln>
        </p:spPr>
      </p:pic>
      <p:sp>
        <p:nvSpPr>
          <p:cNvPr id="360" name="Rectangle 7"/>
          <p:cNvSpPr/>
          <p:nvPr/>
        </p:nvSpPr>
        <p:spPr>
          <a:xfrm>
            <a:off x="3048120" y="6248520"/>
            <a:ext cx="563868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Gothic"/>
              </a:rPr>
              <a:t>Image from http://www.jamesbrennan.org/algebra/numbers/real_number_system.htm. Retrieved July 25, 201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8:41:56Z</dcterms:created>
  <dc:creator>Lora</dc:creator>
  <dc:description/>
  <dc:language>en-US</dc:language>
  <cp:lastModifiedBy>Lora Matzner</cp:lastModifiedBy>
  <dcterms:modified xsi:type="dcterms:W3CDTF">2011-08-04T18:16:18Z</dcterms:modified>
  <cp:revision>122</cp:revision>
  <dc:subject/>
  <dc:title>South Dakota Ag Education</dc:title>
</cp:coreProperties>
</file>